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720263" cy="64801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"/>
          <c:y val="0.019949494949495"/>
          <c:w val="0.856666666666667"/>
          <c:h val="0.94015151515151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a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Fila 1</c:v>
                </c:pt>
                <c:pt idx="1">
                  <c:v>Fila 2</c:v>
                </c:pt>
                <c:pt idx="2">
                  <c:v>Fila 3</c:v>
                </c:pt>
                <c:pt idx="3">
                  <c:v>Fil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a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Fila 1</c:v>
                </c:pt>
                <c:pt idx="1">
                  <c:v>Fila 2</c:v>
                </c:pt>
                <c:pt idx="2">
                  <c:v>Fila 3</c:v>
                </c:pt>
                <c:pt idx="3">
                  <c:v>Fil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a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Fila 1</c:v>
                </c:pt>
                <c:pt idx="1">
                  <c:v>Fila 2</c:v>
                </c:pt>
                <c:pt idx="2">
                  <c:v>Fila 3</c:v>
                </c:pt>
                <c:pt idx="3">
                  <c:v>Fil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14923"/>
        <c:axId val="95000059"/>
      </c:barChart>
      <c:catAx>
        <c:axId val="345149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00059"/>
        <c:crosses val="autoZero"/>
        <c:auto val="1"/>
        <c:lblAlgn val="ctr"/>
        <c:lblOffset val="100"/>
        <c:noMultiLvlLbl val="0"/>
      </c:catAx>
      <c:valAx>
        <c:axId val="95000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1492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96625514403292"/>
          <c:y val="0.4446969696969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C24-FCE1-485F-B521-8D0011FB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BCD-E845-4F7C-900B-CBFE6A7A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55F-3FEA-448F-B43B-12E3783A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43E-49A8-42BB-B6A4-42DEBC6A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970-F63C-4934-8BBB-9FFF0F5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C44-26A4-4CD1-8CEB-BD91F5D5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C5A-CCFD-4105-9289-513EECEB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4AD-2021-458E-8631-077235B1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720" y="151920"/>
            <a:ext cx="87458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ED5-DA2B-435B-8396-0B436016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05C-0657-43A1-A7CA-67D768BA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FF7-F58E-4DA6-A8B8-6050462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F3C-EE3F-479C-A379-858DFE47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15192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e3436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3358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5880" indent="-335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2640" y="6170400"/>
            <a:ext cx="226224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1160" y="6170400"/>
            <a:ext cx="307980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52040" y="6016320"/>
            <a:ext cx="51912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2000" spc="-1" strike="noStrike">
                <a:solidFill>
                  <a:srgbClr val="2e3436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2F40F0-C1BE-4D56-BE7C-8D194CC5EE73}" type="slidenum">
              <a:rPr b="0" lang="fi-FI" sz="2000" spc="-1" strike="noStrike">
                <a:solidFill>
                  <a:srgbClr val="2e3436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The brain cancer is a very dangerous  disease that can kill you. Other cancers can be treated by chemothera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00720" y="1766880"/>
            <a:ext cx="3325680" cy="36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We hope you liked our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Memb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8000"/>
                </a:solidFill>
                <a:latin typeface="Times New Roman"/>
              </a:rPr>
              <a:t>Benaya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fi-FI" sz="3200" spc="-1" strike="noStrike">
                <a:solidFill>
                  <a:srgbClr val="9966cc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9966cc"/>
                </a:solidFill>
                <a:latin typeface="Penguin Attack"/>
              </a:rPr>
              <a:t>Jade,</a:t>
            </a:r>
            <a:r>
              <a:rPr b="0" lang="fi-FI" sz="3200" spc="-1" strike="noStrike">
                <a:solidFill>
                  <a:srgbClr val="ffffff"/>
                </a:solidFill>
                <a:latin typeface="Penguin Attack"/>
              </a:rPr>
              <a:t> </a:t>
            </a:r>
            <a:r>
              <a:rPr b="0" lang="fi-FI" sz="3200" spc="-1" strike="noStrike">
                <a:solidFill>
                  <a:srgbClr val="944794"/>
                </a:solidFill>
                <a:latin typeface="Balker"/>
              </a:rPr>
              <a:t>Maria</a:t>
            </a:r>
            <a:r>
              <a:rPr b="0" lang="fi-FI" sz="3200" spc="-1" strike="noStrike">
                <a:solidFill>
                  <a:srgbClr val="ffffff"/>
                </a:solidFill>
                <a:latin typeface="Balker"/>
              </a:rPr>
              <a:t>,</a:t>
            </a:r>
            <a:r>
              <a:rPr b="0" lang="fi-FI" sz="3200" spc="-1" strike="noStrike">
                <a:solidFill>
                  <a:srgbClr val="999999"/>
                </a:solidFill>
                <a:latin typeface="Al-Andalus"/>
              </a:rPr>
              <a:t>Miguel</a:t>
            </a:r>
            <a:r>
              <a:rPr b="0" lang="fi-FI" sz="3200" spc="-1" strike="noStrike">
                <a:solidFill>
                  <a:srgbClr val="ffffff"/>
                </a:solidFill>
                <a:latin typeface="Al-Andalus"/>
              </a:rPr>
              <a:t>,</a:t>
            </a:r>
            <a:r>
              <a:rPr b="0" lang="fi-FI" sz="3200" spc="-1" strike="noStrike">
                <a:solidFill>
                  <a:srgbClr val="ff0000"/>
                </a:solidFill>
                <a:latin typeface="It wasn't me"/>
              </a:rPr>
              <a:t>Melania</a:t>
            </a:r>
            <a:r>
              <a:rPr b="0" lang="fi-FI" sz="3200" spc="-1" strike="noStrike">
                <a:solidFill>
                  <a:srgbClr val="ffffff"/>
                </a:solidFill>
                <a:latin typeface="Andika Basic"/>
              </a:rPr>
              <a:t>,</a:t>
            </a:r>
            <a:r>
              <a:rPr b="0" lang="fi-FI" sz="3200" spc="-1" strike="noStrike">
                <a:solidFill>
                  <a:srgbClr val="666699"/>
                </a:solidFill>
                <a:latin typeface="Domestic Manners"/>
              </a:rPr>
              <a:t>LU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Now we're going to review the sympto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eadache, vomit , problems with the muscles,  </a:t>
            </a:r>
            <a:r>
              <a:rPr b="0" lang="fi-FI" sz="3200" spc="-1" strike="noStrike">
                <a:solidFill>
                  <a:srgbClr val="ff00ff"/>
                </a:solidFill>
                <a:latin typeface="Phetsarath OT"/>
              </a:rPr>
              <a:t>memory,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 walking , listening and loo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59280" y="1619280"/>
            <a:ext cx="4394160" cy="406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ere we're show you  some pictures of the </a:t>
            </a:r>
            <a:r>
              <a:rPr b="0" lang="fi-FI" sz="3200" spc="-1" strike="noStrike">
                <a:solidFill>
                  <a:srgbClr val="b3b300"/>
                </a:solidFill>
                <a:latin typeface="Swift"/>
              </a:rPr>
              <a:t>brain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0000" y="1440000"/>
            <a:ext cx="5040360" cy="50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ere you see the  </a:t>
            </a:r>
            <a:r>
              <a:rPr b="0" lang="fi-FI" sz="3200" spc="-1" strike="noStrike">
                <a:solidFill>
                  <a:srgbClr val="00ff00"/>
                </a:solidFill>
                <a:latin typeface="Scary Monsters"/>
              </a:rPr>
              <a:t>cells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which are in our br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59280" y="1619280"/>
            <a:ext cx="450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720" y="19692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42688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You can find this disease in all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40360" y="197964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3640" indent="-646200">
              <a:lnSpc>
                <a:spcPct val="112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Marked Fool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Marked Fool"/>
              </a:rPr>
              <a:t>the  worst part of  cancer is that there </a:t>
            </a:r>
            <a:r>
              <a:rPr b="0" lang="fi-FI" sz="3200" spc="-1" strike="noStrike">
                <a:solidFill>
                  <a:srgbClr val="ff0000"/>
                </a:solidFill>
                <a:latin typeface="Marked Fool"/>
              </a:rPr>
              <a:t>isn't any cure and preven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894200" y="2190600"/>
            <a:ext cx="4286160" cy="321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So , it is better if you don't have </a:t>
            </a:r>
            <a:r>
              <a:rPr b="0" lang="fi-FI" sz="4000" spc="-1" strike="noStrike">
                <a:solidFill>
                  <a:srgbClr val="ff0000"/>
                </a:solidFill>
                <a:latin typeface="Swift"/>
              </a:rPr>
              <a:t>cancer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27720" y="1731960"/>
            <a:ext cx="375264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. The people that have this disease ,  sometimes</a:t>
            </a:r>
            <a:r>
              <a:rPr b="0" lang="fi-FI" sz="3200" spc="-1" strike="noStrike">
                <a:solidFill>
                  <a:srgbClr val="ffffff"/>
                </a:solidFill>
                <a:latin typeface="Scary Monsters"/>
              </a:rPr>
              <a:t> </a:t>
            </a:r>
            <a:r>
              <a:rPr b="0" lang="fi-FI" sz="6000" spc="-1" strike="noStrike">
                <a:solidFill>
                  <a:srgbClr val="5c8526"/>
                </a:solidFill>
                <a:latin typeface="Scary Monsters"/>
              </a:rPr>
              <a:t>die</a:t>
            </a:r>
            <a:r>
              <a:rPr b="0" lang="fi-FI" sz="3200" spc="-1" strike="noStrike">
                <a:solidFill>
                  <a:srgbClr val="5c852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67280" y="1515960"/>
            <a:ext cx="4268880" cy="427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40360" y="1619280"/>
            <a:ext cx="4140000" cy="41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720" y="152280"/>
            <a:ext cx="874728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0000"/>
                </a:solidFill>
                <a:latin typeface="Bitstream Vera Sans"/>
              </a:rPr>
              <a:t>Brain cancer</a:t>
            </a:r>
            <a:endParaRPr b="1" lang="en-US" sz="4400" spc="-1" strike="noStrike">
              <a:solidFill>
                <a:srgbClr val="2e3436"/>
              </a:solidFill>
              <a:latin typeface="Bitstream Vera Sans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91640" y="720720"/>
          <a:ext cx="8747280" cy="427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640" y="1515600"/>
            <a:ext cx="87472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What symptoms do you have with brain cancer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Do we find that brain cancer is in only one part of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Is there a prevention for this  dis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63640" indent="-646200">
              <a:lnSpc>
                <a:spcPct val="95000"/>
              </a:lnSpc>
              <a:spcAft>
                <a:spcPts val="1426"/>
              </a:spcAft>
              <a:buClr>
                <a:srgbClr val="8ae234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How do you pronunce 'chemotherapy' in span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0:38:28Z</dcterms:created>
  <dc:creator/>
  <dc:description/>
  <dc:language>en-US</dc:language>
  <cp:lastModifiedBy>Inma Carmona López</cp:lastModifiedBy>
  <dcterms:modified xsi:type="dcterms:W3CDTF">2010-10-13T19:51:51Z</dcterms:modified>
  <cp:revision>15</cp:revision>
  <dc:subject/>
  <dc:title/>
</cp:coreProperties>
</file>